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F25-EF85-48A3-B21E-C3DF12CC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396E-BA03-43AE-B28E-CAA4A7A8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374-A057-4E9B-B7F2-E1ABA317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2EE1-358D-42D0-9692-BB50DB46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A118-AD3B-49F4-8FDF-4D531539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042-FC81-433D-96C1-52434F44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720-0045-42A1-9403-4F630439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409F-A3E1-42E8-947B-717A321B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479-6827-43D3-98E6-E185302E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C617-5C39-48A0-AC56-4AD805F1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A0A1-AE87-4FE1-A03A-2C91C54A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19EA-FEDB-45C4-BD77-F56A926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S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E5A0-2DF0-4613-AC0B-AF492200C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10280" y="52848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MOD 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Ca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OD Coori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ear many h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mon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list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desk (ie, answering support requ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“should” b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ings work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ftware is stand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core apps interact directl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this be good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al formal vett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ly, require interoperabilit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chema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on gmod-schema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, no v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focus--genome feature vis &amp;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tive genomics/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web brow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GMOD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50 orgs (using core a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ad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ciu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D-Princ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evelop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nstallation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 clustering tools (including anything that needs to go into Ch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type and phylogeny schema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ow to attract use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-in from funding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 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GMOD side, having good documentation 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acting Evolutionary Biolog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GMOD meeting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what mee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chema modules and apps do we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2:26:49Z</dcterms:created>
  <dc:creator>Scott Cain</dc:creator>
  <dc:description/>
  <dc:language>en-US</dc:language>
  <cp:lastModifiedBy>Scott Cain</cp:lastModifiedBy>
  <cp:lastPrinted>1904-01-01T00:00:00Z</cp:lastPrinted>
  <dcterms:modified xsi:type="dcterms:W3CDTF">2006-01-20T13:29:33Z</dcterms:modified>
  <cp:revision>18</cp:revision>
  <dc:subject/>
  <dc:title>GMOD Administrivia</dc:title>
</cp:coreProperties>
</file>